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55F-4BBA-4D23-9AD8-37B13AF7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C85-2E5B-4C75-8773-5D6C4512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E04-60DE-42F2-B614-CE85E04E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A29-443F-4D08-9849-344E3EF9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729-F7B6-4010-8183-9440FD95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CC6-5F36-4E78-B07E-BDDF3EB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A34-3A9F-4636-9A97-65DB87F6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C31-BA7E-4583-B422-5548957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E0D-EF1C-40DD-87AA-84D554D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365-6D0A-435A-B07A-0A17948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4E0-5589-4335-8FDF-C26D826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226-6BB1-48EB-96D6-2009C8F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D4C1-1FBE-469C-AE2B-B16CA7EE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the definition with one of the words undern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ent indicating strong criticism or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Brack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Incendi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Cel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Animad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that serves as a charm or is believed to confer magical powers, an amulet, fet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uppl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ali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ropr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Pejo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per or disrespectful treatment of something held sac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acr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ali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c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Halc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, not hidden, expressed or revealed in a way that is easily recogn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Gam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O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My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ous of something to the point of greed; intensely e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c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Histri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My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much agitated or upset as a result of emotion or mental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av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Unwo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Utop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Distr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 or mental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e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re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ropin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Exh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sual or accepted; not in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nwo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Ver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Nefa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Piqu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splay clearly, to make evident, to prov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rtic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Exh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v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Cav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get and retain ideas or information; concerned with acquiring wealth or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sguise or conceal, deliberately give a false i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e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Dis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Mur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Feck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that is too wordy or inflated in proportion to the sense or content, wordiness; a manner of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Ver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Artic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iqu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Verb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on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r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Clo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Pr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Tast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bi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d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usto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Art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Help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i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Exhi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Ga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Com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em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Eluc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De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c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Th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Ineffe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Repreh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h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Un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Di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M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Cen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r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In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Gum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Testimo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formal expression of praise, a lavish 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hew-Emb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e-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nsigent-Luke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se-Sting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iturn-Loqu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ble-Indef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d-Relu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ckish-Fr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ous-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cyon-Turbu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pic-Farsigh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jorative-Compli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-T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kless-Compe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quant-B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nquity-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opian-R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dant-Scor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o work on excessively; to thrash soun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o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a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A survey made for military purposes; any kind of preliminary inspection or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nsi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h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i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stablish by evidence, prove; to give concrete or substantial form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h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ti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, appropriate, apropos, fi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ach and speak to first; to confront in a challenging or aggressiv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Maelst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c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De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39:26Z</dcterms:created>
  <dc:creator>DU</dc:creator>
  <dc:description/>
  <dc:language>en-US</dc:language>
  <cp:lastModifiedBy>DU</cp:lastModifiedBy>
  <dcterms:modified xsi:type="dcterms:W3CDTF">2006-10-10T15:41:42Z</dcterms:modified>
  <cp:revision>2</cp:revision>
  <dc:subject/>
  <dc:title>Chapter 1 Vocabulary</dc:title>
</cp:coreProperties>
</file>